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E2E-F340-4D63-B2EA-9B4E3FF9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778-5F82-40CE-A31E-B8DA4C0B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F90-C080-4693-8AFD-A0E341A3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4A4-130B-48A6-B841-22001F7B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F00-23D7-43C6-BA7C-B8FCA29D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431-EE68-4CB4-909E-C17924FD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FE1-888C-4D0C-931D-7D54A301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EE8-301A-45AC-BC07-34BEEF6B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CFF-44BA-411E-8E99-BF88936B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1CF-E8C6-4CA5-ABEA-17A47D17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B0C-592E-4795-B3E8-51F1644F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B25-7A45-4C27-9633-9A5F3C35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98DE-B257-4A8C-B94D-163AB2C09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Nombres 0 à 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zér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un/u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d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tro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quat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cinq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si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sep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8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hu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neu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dix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encrypted-tbn0.google.com/images?q=tbn:ANd9GcSEuVg5jPFl9ZZOJlfM_OgIAK_tfyFn0ZZNSySOvm5UHDxkUYQO"/>
          <p:cNvPicPr/>
          <p:nvPr/>
        </p:nvPicPr>
        <p:blipFill>
          <a:blip r:embed="rId1"/>
          <a:stretch/>
        </p:blipFill>
        <p:spPr>
          <a:xfrm>
            <a:off x="685800" y="838080"/>
            <a:ext cx="1752480" cy="125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encrypted-tbn0.google.com/images?q=tbn:ANd9GcSciI6DptdufmuxKasLAPT_sQT2qKZd3uIPQuruh1NzhigtHztw"/>
          <p:cNvPicPr/>
          <p:nvPr/>
        </p:nvPicPr>
        <p:blipFill>
          <a:blip r:embed="rId2"/>
          <a:stretch/>
        </p:blipFill>
        <p:spPr>
          <a:xfrm>
            <a:off x="6477120" y="5181480"/>
            <a:ext cx="2514600" cy="149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s://encrypted-tbn3.google.com/images?q=tbn:ANd9GcTVqTqAmiQ2l2oxFz7COm7CiUM9pRJmyyV3R_9_pbrqsSp-CZrS7w"/>
          <p:cNvPicPr/>
          <p:nvPr/>
        </p:nvPicPr>
        <p:blipFill>
          <a:blip r:embed="rId3"/>
          <a:stretch/>
        </p:blipFill>
        <p:spPr>
          <a:xfrm>
            <a:off x="609480" y="5259240"/>
            <a:ext cx="1828800" cy="1227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s://encrypted-tbn2.google.com/images?q=tbn:ANd9GcStksyVuUMd1TiKsjEoXV9oqC8TtFNnhqfv3alY8K-mh9HimpuIlw"/>
          <p:cNvPicPr/>
          <p:nvPr/>
        </p:nvPicPr>
        <p:blipFill>
          <a:blip r:embed="rId4"/>
          <a:stretch/>
        </p:blipFill>
        <p:spPr>
          <a:xfrm>
            <a:off x="3429000" y="2209680"/>
            <a:ext cx="2224080" cy="173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ttps://encrypted-tbn2.google.com/images?q=tbn:ANd9GcRhzl1OA62SgoDWDyjS3nqOLdBj_SHIgIYjmDln18ZOHsel_zNweg"/>
          <p:cNvPicPr/>
          <p:nvPr/>
        </p:nvPicPr>
        <p:blipFill>
          <a:blip r:embed="rId5"/>
          <a:stretch/>
        </p:blipFill>
        <p:spPr>
          <a:xfrm>
            <a:off x="6172200" y="38088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https://encrypted-tbn2.google.com/images?q=tbn:ANd9GcR31BLDL3pNvn5DclgDyYkJgvAPxgyiBoTk3-xQtT5k5S8Q772yhQ"/>
          <p:cNvPicPr/>
          <p:nvPr/>
        </p:nvPicPr>
        <p:blipFill>
          <a:blip r:embed="rId6"/>
          <a:stretch/>
        </p:blipFill>
        <p:spPr>
          <a:xfrm>
            <a:off x="609480" y="2895480"/>
            <a:ext cx="1913040" cy="15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http://youritlist.com/wp-content/uploads/2011/06/harry-potter-books-1-7111.jpg"/>
          <p:cNvPicPr/>
          <p:nvPr/>
        </p:nvPicPr>
        <p:blipFill>
          <a:blip r:embed="rId7"/>
          <a:stretch/>
        </p:blipFill>
        <p:spPr>
          <a:xfrm>
            <a:off x="3429000" y="4343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http://rsrc.psychologytoday.com/files/imagecache/article-inline-full/blogs/47665/2010/10/49291-38060.jpg"/>
          <p:cNvPicPr/>
          <p:nvPr/>
        </p:nvPicPr>
        <p:blipFill>
          <a:blip r:embed="rId8"/>
          <a:stretch/>
        </p:blipFill>
        <p:spPr>
          <a:xfrm>
            <a:off x="6172200" y="2743200"/>
            <a:ext cx="29718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ttps://encrypted-tbn0.google.com/images?q=tbn:ANd9GcSCJUXuVyQoqHJbMZDwSt7EnbHmCFAPZ1V1zY4FB3qCNxQhyXq0Ng"/>
          <p:cNvPicPr/>
          <p:nvPr/>
        </p:nvPicPr>
        <p:blipFill>
          <a:blip r:embed="rId9"/>
          <a:srcRect l="0" t="4262" r="34339" b="0"/>
          <a:stretch/>
        </p:blipFill>
        <p:spPr>
          <a:xfrm>
            <a:off x="3733920" y="228600"/>
            <a:ext cx="1676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1 à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u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eiz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ator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inz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7-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What’s the word for 10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i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7? 8? 9? (sept, huit, neu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You use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dix  + a hyphen + sept/huit/neu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Dix-se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Dix-h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Dix-neu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20-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 et u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2-29 (vingt-</a:t>
            </a: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nombres deux à neu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de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tro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quat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cin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s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sep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hu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ngt-neu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Tr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atique : L’addition + le sub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.  Dix plus dix font ______________ (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uit moins deux font 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uze plus cinq font 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ingt plus neuf font 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ente moins quinze font 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plus vingt-deux font 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o Introduce and Resp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o introd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Je te/vous présente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’d like to present you to_____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Ça, c’est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his is 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’est un ami/une am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his is a fri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espo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njour/Sal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chanté(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ry nice to meet you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Ask How Old Someone 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 as quel â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l/elle a quel â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’ai _________ 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l a _________ 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6:09:02Z</dcterms:created>
  <dc:creator>Robbie</dc:creator>
  <dc:description/>
  <dc:language>en-US</dc:language>
  <cp:lastModifiedBy>Robbie</cp:lastModifiedBy>
  <dcterms:modified xsi:type="dcterms:W3CDTF">2012-08-19T19:19:34Z</dcterms:modified>
  <cp:revision>2</cp:revision>
  <dc:subject/>
  <dc:title>Les Nombres 0 à 30</dc:title>
</cp:coreProperties>
</file>